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gif" ContentType="image/gif"/>
  <Override PartName="/ppt/media/image6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5BC52-9C04-4E01-9452-28F3670ACF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932EC-F5FF-406A-A4C9-305D3DAA8E1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DEA32-B18D-413B-91D9-41C1230A946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9DFA6-B622-4EAB-B9B0-8DD47B74227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AFEF4-A65F-4F91-A167-AEE781C6D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55E93-2091-47B2-8042-5EC9ADF3E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23CFC-880D-4D80-A0AB-F3DC981F6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286E0-3A98-4885-9329-502C7B8B6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2CCF9-B341-4A8D-B704-9B14F225D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59C21-C0EA-44B2-8A79-60C833DF6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B7DCB-CB9F-4380-A697-E93974B19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35337-716B-4F68-96C3-F598FF9AD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3F8CA-F298-4D8E-87F8-7BF22002D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021D4-349A-4688-A736-B9F5E0050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FF437-6D38-4784-8E6C-95FEA9F94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952C5-046F-49D5-8EB1-12437D161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64619-3A91-4680-9C62-E9CD7C59D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70B6C-5BDE-40E0-93C0-7D18C3A4F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2BD46-13E6-47E2-9491-46BEBC837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43C80-FB13-44DD-9AAC-2E6921F57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42946-495C-46F1-BB28-8DF01F0BF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71993-3664-4A56-A80D-06F768298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62B14-9132-4F17-8254-28498737A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01237-2563-4EEB-B1CE-96C23EBAA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6147D-4B2F-4C9D-AB55-39C8D2EDC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5BB4A-A97E-4B7F-841C-8DE36B0A4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68E1B-FEF2-4B4C-B74D-AC131E510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8EF6D-23E0-4751-8AD7-7F94968E2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9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Freeform 8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9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10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11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17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18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19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20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21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Freeform 22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Freeform 23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Rectangle 25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27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28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29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30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Rectangle 34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35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Freeform 36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Freeform 37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Freeform 38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Freeform 39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Freeform 40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Freeform 41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Freeform 42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Freeform 43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Rectangle 44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4E4BB-6655-4676-A36A-1508454F45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50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Freeform 35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Freeform 36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37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38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1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2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3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4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15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Freeform 16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Freeform 17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Rectangle 18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Freeform 20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Freeform 21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Freeform 22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Freeform 23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Rectangle 27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Freeform 28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Freeform 29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Freeform 30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Freeform 31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Freeform 32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Freeform 33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Freeform 34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Freeform 35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Freeform 36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Rectangle 37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Rectangle 45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Rectangle 46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9" name="Picture 43" descr="BTZBUL1A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4B6B2-AD0E-4B8E-A1B3-3DA1C56DC1F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97040"/>
            <a:ext cx="7772400" cy="76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Begin the Begin…..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 Questions to check your knowledg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ut the answers in your notes directly after the last less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ank You for following direct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4" descr="Flag Background"/>
          <p:cNvPicPr/>
          <p:nvPr/>
        </p:nvPicPr>
        <p:blipFill>
          <a:blip r:embed="rId1"/>
          <a:stretch/>
        </p:blipFill>
        <p:spPr>
          <a:xfrm>
            <a:off x="-914400" y="-380880"/>
            <a:ext cx="10972800" cy="761976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525240"/>
            <a:ext cx="9144000" cy="212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1. Name two weaknesses of the Articles of Confederation.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52" name="Picture 6" descr=""/>
          <p:cNvPicPr/>
          <p:nvPr/>
        </p:nvPicPr>
        <p:blipFill>
          <a:blip r:embed="rId2"/>
          <a:stretch/>
        </p:blipFill>
        <p:spPr>
          <a:xfrm>
            <a:off x="2684520" y="3200400"/>
            <a:ext cx="3774960" cy="377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4" descr="Flag Background"/>
          <p:cNvPicPr/>
          <p:nvPr/>
        </p:nvPicPr>
        <p:blipFill>
          <a:blip r:embed="rId1"/>
          <a:stretch/>
        </p:blipFill>
        <p:spPr>
          <a:xfrm>
            <a:off x="-914400" y="-380880"/>
            <a:ext cx="10972800" cy="761976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185400"/>
            <a:ext cx="9144000" cy="280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2. </a:t>
            </a:r>
            <a:r>
              <a:rPr b="1" lang="en-US" sz="4400" spc="-1" strike="noStrike">
                <a:solidFill>
                  <a:srgbClr val="000066"/>
                </a:solidFill>
                <a:latin typeface="Arial Black"/>
              </a:rPr>
              <a:t>Name the rebellion that occurred during 1786-1787 over farm foreclosures in Massachusetts.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55" name="Picture 7" descr=""/>
          <p:cNvPicPr/>
          <p:nvPr/>
        </p:nvPicPr>
        <p:blipFill>
          <a:blip r:embed="rId2"/>
          <a:stretch/>
        </p:blipFill>
        <p:spPr>
          <a:xfrm>
            <a:off x="2057400" y="3276720"/>
            <a:ext cx="4784760" cy="358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4" descr="Flag Background"/>
          <p:cNvPicPr/>
          <p:nvPr/>
        </p:nvPicPr>
        <p:blipFill>
          <a:blip r:embed="rId1"/>
          <a:stretch/>
        </p:blipFill>
        <p:spPr>
          <a:xfrm>
            <a:off x="-914400" y="-380880"/>
            <a:ext cx="10972800" cy="761976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430080" y="2057040"/>
            <a:ext cx="5737320" cy="144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3. DEFINE </a:t>
            </a:r>
            <a:r>
              <a:rPr b="0" lang="en-US" sz="4400" spc="-1" strike="noStrike" u="sng">
                <a:solidFill>
                  <a:srgbClr val="000066"/>
                </a:solidFill>
                <a:uFillTx/>
                <a:latin typeface="Arial Black"/>
              </a:rPr>
              <a:t>UNICAMERAL</a:t>
            </a: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.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58" name="Picture 5" descr=""/>
          <p:cNvPicPr/>
          <p:nvPr/>
        </p:nvPicPr>
        <p:blipFill>
          <a:blip r:embed="rId2"/>
          <a:stretch/>
        </p:blipFill>
        <p:spPr>
          <a:xfrm>
            <a:off x="0" y="1828800"/>
            <a:ext cx="3824280" cy="38242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1T13:44:01Z</dcterms:created>
  <dc:creator>THOMAS_SAUER</dc:creator>
  <dc:description/>
  <dc:language>en-US</dc:language>
  <cp:lastModifiedBy>SysAdmin</cp:lastModifiedBy>
  <dcterms:modified xsi:type="dcterms:W3CDTF">2011-09-22T12:52:14Z</dcterms:modified>
  <cp:revision>122</cp:revision>
  <dc:subject/>
  <dc:title>D/O: TO EXPLAIN AND IDENTIFY PROBLEMS OF ECONOMICS</dc:title>
</cp:coreProperties>
</file>